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whoosh.wav" ContentType="audio/x-wav"/>
  <Override PartName="/ppt/media/image28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9.gif" ContentType="image/gif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gif" ContentType="image/gif"/>
  <Override PartName="/ppt/media/image26.jpeg" ContentType="image/jpeg"/>
  <Override PartName="/ppt/media/image32.jpeg" ContentType="image/jpeg"/>
  <Override PartName="/ppt/media/image7.gif" ContentType="image/gif"/>
  <Override PartName="/ppt/media/image29.jpeg" ContentType="image/jpeg"/>
  <Override PartName="/ppt/media/image35.png" ContentType="image/png"/>
  <Override PartName="/ppt/media/image5.png" ContentType="image/png"/>
  <Override PartName="/ppt/media/explode.wav" ContentType="audio/x-wav"/>
  <Override PartName="/ppt/media/image33.png" ContentType="image/png"/>
  <Override PartName="/ppt/media/image34.jpeg" ContentType="image/jpeg"/>
  <Override PartName="/ppt/media/image36.jpeg" ContentType="image/jpeg"/>
  <Override PartName="/ppt/media/image38.jpeg" ContentType="image/jpeg"/>
  <Override PartName="/ppt/media/image39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24.jpeg" ContentType="image/jpeg"/>
  <Override PartName="/ppt/media/image10.png" ContentType="image/png"/>
  <Override PartName="/ppt/media/image11.jpeg" ContentType="image/jpeg"/>
  <Override PartName="/ppt/media/image1.gif" ContentType="image/gif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51E-B0CD-44AE-B1F3-69B00F41C2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F2EE-E907-42D6-939A-6FD2A5FD52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арад  пл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4535-6C09-4E24-A8D9-5DF81EC4DC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99ccff"/>
                </a:solidFill>
                <a:latin typeface="Impact"/>
              </a:rPr>
              <a:t>лу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4C61-DAF7-4D9E-9886-C9BAD921D4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EE3B-71E0-40D9-96DC-E14869AA02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рку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5FFA-BA6B-4911-B163-735F92DF50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5542-C61A-462C-8EEA-CA95D5164A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5DD9-B151-47E1-B7BA-AB05DB36B0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633C-D5D8-4C32-AD0B-33BE163063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ур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4FC3-5428-4740-9EC3-A2BA570F7E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E984-F868-4F0F-8D62-5D247EFFBE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атур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E11C-C185-4031-8020-846993AD5B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AC61-514C-40CF-B5B4-4D7CD51732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F866-8357-446C-AB45-3A4CAFA6F3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юпи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5C8F-538D-403E-9928-13DE7F997A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CC49-7A17-4C5A-B12D-4BE91FB3E8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C8CB-6E5D-4DD0-9438-E9C3942F0B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804C-D426-4F96-8E6F-2651D8AD24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лу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2834-0D57-4399-8A9F-34C4D0A6B5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6246-B955-4076-B776-CA6F5CD890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F38B-6AB6-4578-9C97-C08DD73523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D515-6371-45AB-AFA3-A2D984F9A4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5C1D-0AD9-4105-8F37-F52E654897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3FF4-65AA-48FA-A74E-235A52A0A6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7F74-29DE-4A2C-ADEF-80640A657C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ве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24F8-B6AD-4007-9777-136D7E8AA4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D25-3790-4E59-9F3D-4EF9EA6D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F3D-21B6-42A6-B5EA-7D1193D2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06F-3C1D-412D-A1C9-B19A3314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E1C-7212-41DC-873A-33478A10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77B-DD51-4AC9-B2CB-23D29355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517-3F52-4D40-9BC9-11A3E08E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C0D-468A-4045-B38F-DE38495F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4D8-0CA4-45F2-A9FC-F542BC8B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1FE-AFD6-4BB7-88D0-C8F5E7F3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209-90DB-43E0-A395-D7D13BE2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743-BF9F-4655-84B5-E54ABC3D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26C-6C0D-42C8-A27C-5AAD34D5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07E3-C23F-45B9-9AF6-1B25430EF0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1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" Target="slide10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slide" Target="slide13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slide" Target="slide12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" Target="slide17.xml"/><Relationship Id="rId6" Type="http://schemas.openxmlformats.org/officeDocument/2006/relationships/image" Target="../media/image16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jpeg"/><Relationship Id="rId3" Type="http://schemas.openxmlformats.org/officeDocument/2006/relationships/slide" Target="slide16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18.xml"/><Relationship Id="rId7" Type="http://schemas.openxmlformats.org/officeDocument/2006/relationships/image" Target="../media/image6.gif"/><Relationship Id="rId8" Type="http://schemas.openxmlformats.org/officeDocument/2006/relationships/slide" Target="slide16.xml"/><Relationship Id="rId9" Type="http://schemas.openxmlformats.org/officeDocument/2006/relationships/image" Target="../media/image7.gif"/><Relationship Id="rId10" Type="http://schemas.openxmlformats.org/officeDocument/2006/relationships/slide" Target="slide12.xml"/><Relationship Id="rId11" Type="http://schemas.openxmlformats.org/officeDocument/2006/relationships/image" Target="../media/image8.gif"/><Relationship Id="rId12" Type="http://schemas.openxmlformats.org/officeDocument/2006/relationships/slide" Target="slide3.xml"/><Relationship Id="rId13" Type="http://schemas.openxmlformats.org/officeDocument/2006/relationships/image" Target="../media/image9.gif"/><Relationship Id="rId14" Type="http://schemas.openxmlformats.org/officeDocument/2006/relationships/slide" Target="slide14.xml"/><Relationship Id="rId15" Type="http://schemas.openxmlformats.org/officeDocument/2006/relationships/image" Target="../media/image10.png"/><Relationship Id="rId16" Type="http://schemas.openxmlformats.org/officeDocument/2006/relationships/slide" Target="slide22.xml"/><Relationship Id="rId17" Type="http://schemas.openxmlformats.org/officeDocument/2006/relationships/image" Target="../media/image11.jpeg"/><Relationship Id="rId18" Type="http://schemas.openxmlformats.org/officeDocument/2006/relationships/slide" Target="slide20.xml"/><Relationship Id="rId19" Type="http://schemas.openxmlformats.org/officeDocument/2006/relationships/image" Target="../media/image12.jpeg"/><Relationship Id="rId20" Type="http://schemas.openxmlformats.org/officeDocument/2006/relationships/slide" Target="slide3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6.xml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8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" Target="slide4.xml"/><Relationship Id="rId5" Type="http://schemas.openxmlformats.org/officeDocument/2006/relationships/image" Target="../media/image16.jpeg"/><Relationship Id="rId6" Type="http://schemas.openxmlformats.org/officeDocument/2006/relationships/slide" Target="slide2.xml"/><Relationship Id="rId7" Type="http://schemas.openxmlformats.org/officeDocument/2006/relationships/image" Target="../media/image17.jpe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gif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slide" Target="slide3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slide" Target="slide4.xm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gif"/><Relationship Id="rId3" Type="http://schemas.openxmlformats.org/officeDocument/2006/relationships/slide" Target="slide7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20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gif"/><Relationship Id="rId3" Type="http://schemas.openxmlformats.org/officeDocument/2006/relationships/slide" Target="slide8.xml"/><Relationship Id="rId4" Type="http://schemas.openxmlformats.org/officeDocument/2006/relationships/image" Target="../media/image16.jpeg"/><Relationship Id="rId5" Type="http://schemas.openxmlformats.org/officeDocument/2006/relationships/slide" Target="slide6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Ракета"/>
          <p:cNvPicPr/>
          <p:nvPr/>
        </p:nvPicPr>
        <p:blipFill>
          <a:blip r:embed="rId3"/>
          <a:stretch/>
        </p:blipFill>
        <p:spPr>
          <a:xfrm>
            <a:off x="5410080" y="-2819520"/>
            <a:ext cx="403200" cy="28116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685800" y="2133720"/>
            <a:ext cx="7848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арад  пла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"/>
          <p:cNvPicPr/>
          <p:nvPr/>
        </p:nvPicPr>
        <p:blipFill>
          <a:blip r:embed="rId1"/>
          <a:stretch/>
        </p:blipFill>
        <p:spPr>
          <a:xfrm>
            <a:off x="0" y="3232080"/>
            <a:ext cx="4000680" cy="36259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7"/>
          <p:cNvSpPr txBox="1"/>
          <p:nvPr/>
        </p:nvSpPr>
        <p:spPr>
          <a:xfrm>
            <a:off x="380880" y="129528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лун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495680" y="547200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спутников=0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495680" y="685800"/>
            <a:ext cx="47246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moon_fase"/>
          <p:cNvPicPr/>
          <p:nvPr/>
        </p:nvPicPr>
        <p:blipFill>
          <a:blip r:embed="rId2"/>
          <a:stretch/>
        </p:blipFill>
        <p:spPr>
          <a:xfrm>
            <a:off x="2209680" y="1600200"/>
            <a:ext cx="55627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752480" y="22860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372600" cy="778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p1"/>
          <p:cNvPicPr/>
          <p:nvPr/>
        </p:nvPicPr>
        <p:blipFill>
          <a:blip r:embed="rId2"/>
          <a:stretch/>
        </p:blipFill>
        <p:spPr>
          <a:xfrm>
            <a:off x="0" y="1901880"/>
            <a:ext cx="3124080" cy="3051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3635280" y="0"/>
            <a:ext cx="411480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3b61f"/>
                    </a:gs>
                    <a:gs pos="50000">
                      <a:srgbClr val="ef7f23"/>
                    </a:gs>
                    <a:gs pos="100000">
                      <a:srgbClr val="f3b61f"/>
                    </a:gs>
                  </a:gsLst>
                  <a:lin ang="2700000"/>
                </a:gradFill>
                <a:latin typeface="Impact"/>
              </a:rPr>
              <a:t>меркурий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3b61f"/>
                  </a:gs>
                  <a:gs pos="50000">
                    <a:srgbClr val="ef7f23"/>
                  </a:gs>
                  <a:gs pos="100000">
                    <a:srgbClr val="f3b61f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048120" y="1989000"/>
            <a:ext cx="609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52280" y="355680"/>
            <a:ext cx="8839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2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267080" y="1066680"/>
            <a:ext cx="5867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762120" y="152280"/>
            <a:ext cx="3124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33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    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33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8" descr="0"/>
          <p:cNvPicPr/>
          <p:nvPr/>
        </p:nvPicPr>
        <p:blipFill>
          <a:blip r:embed="rId2"/>
          <a:stretch/>
        </p:blipFill>
        <p:spPr>
          <a:xfrm>
            <a:off x="0" y="2935440"/>
            <a:ext cx="4075200" cy="399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8380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676520" y="2490840"/>
            <a:ext cx="8076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Uranv"/>
          <p:cNvPicPr/>
          <p:nvPr/>
        </p:nvPicPr>
        <p:blipFill>
          <a:blip r:embed="rId2"/>
          <a:stretch/>
        </p:blipFill>
        <p:spPr>
          <a:xfrm>
            <a:off x="0" y="838080"/>
            <a:ext cx="1676520" cy="31244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7"/>
          <p:cNvSpPr txBox="1"/>
          <p:nvPr/>
        </p:nvSpPr>
        <p:spPr>
          <a:xfrm rot="838200">
            <a:off x="3696840" y="837720"/>
            <a:ext cx="4303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ура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62" name="Picture 13" descr="Впере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Уран"/>
          <p:cNvPicPr/>
          <p:nvPr/>
        </p:nvPicPr>
        <p:blipFill>
          <a:blip r:embed="rId2"/>
          <a:stretch/>
        </p:blipFill>
        <p:spPr>
          <a:xfrm>
            <a:off x="7954920" y="4503600"/>
            <a:ext cx="1189080" cy="2354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93816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satring"/>
          <p:cNvPicPr/>
          <p:nvPr/>
        </p:nvPicPr>
        <p:blipFill>
          <a:blip r:embed="rId2"/>
          <a:stretch/>
        </p:blipFill>
        <p:spPr>
          <a:xfrm>
            <a:off x="2895480" y="228600"/>
            <a:ext cx="3353040" cy="20350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 rot="5400000">
            <a:off x="-491040" y="3005280"/>
            <a:ext cx="441036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50000">
                      <a:srgbClr val="ff9900"/>
                    </a:gs>
                    <a:gs pos="100000">
                      <a:srgbClr val="7647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атурн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657600" y="1697040"/>
            <a:ext cx="5181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Вперед"/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Назад"/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aturn-ir"/>
          <p:cNvPicPr/>
          <p:nvPr/>
        </p:nvPicPr>
        <p:blipFill>
          <a:blip r:embed="rId1"/>
          <a:stretch/>
        </p:blipFill>
        <p:spPr>
          <a:xfrm>
            <a:off x="0" y="0"/>
            <a:ext cx="7924680" cy="6324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3"/>
          <p:cNvSpPr/>
          <p:nvPr/>
        </p:nvSpPr>
        <p:spPr>
          <a:xfrm>
            <a:off x="457200" y="353880"/>
            <a:ext cx="8381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9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24000" y="2781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077440" y="11970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ерку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516720" y="3357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ур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8" descr="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1052640"/>
            <a:ext cx="457200" cy="414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9"/>
          <p:cNvSpPr/>
          <p:nvPr/>
        </p:nvSpPr>
        <p:spPr>
          <a:xfrm>
            <a:off x="2556000" y="1341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лу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1" descr="Венер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620640"/>
            <a:ext cx="561960" cy="579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2"/>
          <p:cNvSpPr/>
          <p:nvPr/>
        </p:nvSpPr>
        <p:spPr>
          <a:xfrm>
            <a:off x="3924360" y="112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вен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4140360" y="573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юпи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2268360" y="39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а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8" descr="satri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67280" y="4508640"/>
            <a:ext cx="914400" cy="63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0"/>
          <p:cNvSpPr/>
          <p:nvPr/>
        </p:nvSpPr>
        <p:spPr>
          <a:xfrm>
            <a:off x="6230160" y="19890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непту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5940360" y="4941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сатур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4" descr="Uranv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rot="5400000">
            <a:off x="6644160" y="2580480"/>
            <a:ext cx="446040" cy="99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1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35640" y="907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6" descr="sun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00400" y="1905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7"/>
          <p:cNvSpPr/>
          <p:nvPr/>
        </p:nvSpPr>
        <p:spPr>
          <a:xfrm>
            <a:off x="4114800" y="30621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1835280" y="6338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Затм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0"/>
          <p:cNvSpPr/>
          <p:nvPr/>
        </p:nvSpPr>
        <p:spPr>
          <a:xfrm>
            <a:off x="6227640" y="633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Уч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1" descr="0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43640" y="1844640"/>
            <a:ext cx="304920" cy="3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2" descr="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350028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3" descr="jupiter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211640" y="4724280"/>
            <a:ext cx="892080" cy="1008360"/>
          </a:xfrm>
          <a:prstGeom prst="rect">
            <a:avLst/>
          </a:prstGeom>
          <a:ln w="0">
            <a:noFill/>
          </a:ln>
        </p:spPr>
      </p:pic>
      <p:sp>
        <p:nvSpPr>
          <p:cNvPr id="74" name="Oval 64"/>
          <p:cNvSpPr/>
          <p:nvPr/>
        </p:nvSpPr>
        <p:spPr>
          <a:xfrm>
            <a:off x="2057400" y="20574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5">
            <a:hlinkClick r:id="rId20" action="ppaction://hlinksldjump"/>
          </p:cNvPr>
          <p:cNvSpPr/>
          <p:nvPr/>
        </p:nvSpPr>
        <p:spPr>
          <a:xfrm>
            <a:off x="4067280" y="306864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57240">
            <a:solidFill>
              <a:srgbClr val="efe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0">
            <a:hlinkClick r:id="rId21" action="ppaction://hlinksldjump"/>
          </p:cNvPr>
          <p:cNvSpPr/>
          <p:nvPr/>
        </p:nvSpPr>
        <p:spPr>
          <a:xfrm>
            <a:off x="190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1">
            <a:hlinkClick r:id="rId22" action="ppaction://hlinksldjump"/>
          </p:cNvPr>
          <p:cNvSpPr/>
          <p:nvPr/>
        </p:nvSpPr>
        <p:spPr>
          <a:xfrm>
            <a:off x="60847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4">
            <a:hlinkClick r:id="rId23" action="ppaction://hlinksldjump"/>
          </p:cNvPr>
          <p:cNvSpPr/>
          <p:nvPr/>
        </p:nvSpPr>
        <p:spPr>
          <a:xfrm>
            <a:off x="2627280" y="458136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Десят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план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5" descr="ch13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908000" y="177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jupiter"/>
          <p:cNvPicPr/>
          <p:nvPr/>
        </p:nvPicPr>
        <p:blipFill>
          <a:blip r:embed="rId2"/>
          <a:stretch/>
        </p:blipFill>
        <p:spPr>
          <a:xfrm>
            <a:off x="141120" y="343080"/>
            <a:ext cx="2525760" cy="2857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743200" y="490680"/>
            <a:ext cx="723888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 rot="5400000">
            <a:off x="-571680" y="430524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юпитер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Picture 11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228600" y="1143000"/>
            <a:ext cx="8839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3276720" y="-228600"/>
            <a:ext cx="62481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 rot="5400000">
            <a:off x="-485640" y="4162320"/>
            <a:ext cx="3429000" cy="1200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рс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6696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Марс"/>
          <p:cNvPicPr/>
          <p:nvPr/>
        </p:nvPicPr>
        <p:blipFill>
          <a:blip r:embed="rId4"/>
          <a:stretch/>
        </p:blipFill>
        <p:spPr>
          <a:xfrm>
            <a:off x="361800" y="636480"/>
            <a:ext cx="2000520" cy="1954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194328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7"/>
          <p:cNvGrpSpPr/>
          <p:nvPr/>
        </p:nvGrpSpPr>
        <p:grpSpPr>
          <a:xfrm>
            <a:off x="3902040" y="800280"/>
            <a:ext cx="5224320" cy="360"/>
            <a:chOff x="3902040" y="800280"/>
            <a:chExt cx="5224320" cy="360"/>
          </a:xfrm>
        </p:grpSpPr>
        <p:sp>
          <p:nvSpPr>
            <p:cNvPr id="203" name="Rectangle 4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247680" y="847800"/>
            <a:ext cx="8648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6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Плутон и Херон"/>
          <p:cNvPicPr/>
          <p:nvPr/>
        </p:nvPicPr>
        <p:blipFill>
          <a:blip r:embed="rId2"/>
          <a:stretch/>
        </p:blipFill>
        <p:spPr>
          <a:xfrm>
            <a:off x="666720" y="609480"/>
            <a:ext cx="2457360" cy="2133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4"/>
          <p:cNvSpPr txBox="1"/>
          <p:nvPr/>
        </p:nvSpPr>
        <p:spPr>
          <a:xfrm>
            <a:off x="4572000" y="685800"/>
            <a:ext cx="4281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5e4776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лутон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5e4776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80880" y="2809800"/>
            <a:ext cx="8610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Вперед"/>
          <p:cNvPicPr/>
          <p:nvPr/>
        </p:nvPicPr>
        <p:blipFill>
          <a:blip r:embed="rId3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Меню"/>
          <p:cNvPicPr/>
          <p:nvPr/>
        </p:nvPicPr>
        <p:blipFill>
          <a:blip r:embed="rId4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Назад"/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Плутон  "/>
          <p:cNvPicPr/>
          <p:nvPr/>
        </p:nvPicPr>
        <p:blipFill>
          <a:blip r:embed="rId2"/>
          <a:stretch/>
        </p:blipFill>
        <p:spPr>
          <a:xfrm>
            <a:off x="3657600" y="0"/>
            <a:ext cx="1905120" cy="1593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0" y="1295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5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Солнце"/>
          <p:cNvPicPr/>
          <p:nvPr/>
        </p:nvPicPr>
        <p:blipFill>
          <a:blip r:embed="rId1"/>
          <a:stretch/>
        </p:blipFill>
        <p:spPr>
          <a:xfrm>
            <a:off x="0" y="0"/>
            <a:ext cx="9144000" cy="7267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28600" y="998640"/>
            <a:ext cx="8686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Масса  = 1.99* 1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30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Диаметр  = 1.392.000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Температура поверхности  =  580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оси  =  25 ч(полюса) -</a:t>
            </a:r>
            <a:r>
              <a:rPr b="0" lang="en-US" sz="2400" spc="-1" strike="noStrike">
                <a:solidFill>
                  <a:srgbClr val="e8f22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35 ч(экватор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центра галактики  = 200.000.000 ле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Расстояние до центра галактики =25000 свет.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886200" y="0"/>
            <a:ext cx="3429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лнце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3" descr="Впере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128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sun"/>
          <p:cNvPicPr/>
          <p:nvPr/>
        </p:nvPicPr>
        <p:blipFill>
          <a:blip r:embed="rId2"/>
          <a:stretch/>
        </p:blipFill>
        <p:spPr>
          <a:xfrm>
            <a:off x="3962520" y="15228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914400" y="129528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380880" y="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44c1e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роение солнца</a:t>
            </a:r>
            <a:endParaRPr b="0" lang="en-US" sz="2400" spc="1" strike="noStrike">
              <a:ln w="9360">
                <a:solidFill>
                  <a:srgbClr val="f44c1e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14" descr="меню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sh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3324240" y="228600"/>
            <a:ext cx="42195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емля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72" descr="ch13"/>
          <p:cNvPicPr/>
          <p:nvPr/>
        </p:nvPicPr>
        <p:blipFill>
          <a:blip r:embed="rId2"/>
          <a:stretch/>
        </p:blipFill>
        <p:spPr>
          <a:xfrm>
            <a:off x="7772400" y="5257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5"/>
          <p:cNvSpPr/>
          <p:nvPr/>
        </p:nvSpPr>
        <p:spPr>
          <a:xfrm>
            <a:off x="609480" y="1523880"/>
            <a:ext cx="7391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6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7" descr="меню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8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e14"/>
          <p:cNvPicPr/>
          <p:nvPr/>
        </p:nvPicPr>
        <p:blipFill>
          <a:blip r:embed="rId2"/>
          <a:stretch/>
        </p:blipFill>
        <p:spPr>
          <a:xfrm>
            <a:off x="2590920" y="1143000"/>
            <a:ext cx="44193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457200" y="685800"/>
            <a:ext cx="82296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572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venu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228600" y="890640"/>
            <a:ext cx="5867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15"/>
          <p:cNvSpPr txBox="1"/>
          <p:nvPr/>
        </p:nvSpPr>
        <p:spPr>
          <a:xfrm rot="2060400">
            <a:off x="5943240" y="609120"/>
            <a:ext cx="28954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енера</a:t>
            </a:r>
            <a:endParaRPr b="0" lang="en-US" sz="2400" spc="1" strike="noStrike">
              <a:ln w="38160">
                <a:solidFill>
                  <a:srgbClr val="0033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Венера"/>
          <p:cNvPicPr/>
          <p:nvPr/>
        </p:nvPicPr>
        <p:blipFill>
          <a:blip r:embed="rId1"/>
          <a:stretch/>
        </p:blipFill>
        <p:spPr>
          <a:xfrm>
            <a:off x="1638360" y="0"/>
            <a:ext cx="6243480" cy="63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914400" y="118440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1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4:53:34Z</dcterms:created>
  <dc:creator>CyganokEI</dc:creator>
  <dc:description/>
  <dc:language>en-US</dc:language>
  <cp:lastModifiedBy>LEGION</cp:lastModifiedBy>
  <dcterms:modified xsi:type="dcterms:W3CDTF">2015-01-12T09:16:00Z</dcterms:modified>
  <cp:revision>82</cp:revision>
  <dc:subject/>
  <dc:title>Презентация PowerPoint</dc:title>
</cp:coreProperties>
</file>